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8041-073C-4BC5-960E-EC510A760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5FD0-F7C1-4F05-86A2-2C1063918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D666-08F1-4D72-AF24-CECD25923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05F5-D0F7-4E21-98F7-88F8DFB2E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E7E3-FD73-4736-B0EC-A263D3B791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23E4-D74D-4F53-836C-7C8C3FD39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FDE7-687F-461A-9897-163C67A6E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F263-B254-45CB-897E-048A5E14A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0A26-C4F9-4E02-95D6-D9430015A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2F07-8C08-4F23-990D-5E53C822A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67DC-8F2A-48F2-9B7B-751568F42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74A7-1453-480B-A171-AA39C4118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2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F5552-C1B9-49F4-BB33-A6985E1952A2}" type="slidenum">
              <a:rPr b="0" lang="fr-FR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42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29200" y="533520"/>
            <a:ext cx="3122640" cy="16747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“Aircraft functions” along with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it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228600"/>
            <a:ext cx="3046320" cy="9604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fy “systems” that implement “function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828800"/>
            <a:ext cx="3046320" cy="100656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ritic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7845480" cy="63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4800" cy="463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914400"/>
            <a:ext cx="3273480" cy="16732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Hardware architec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ach system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79440" y="1509840"/>
            <a:ext cx="4114800" cy="8665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Conception / synthesis of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Matlab / Simul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58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876920" y="3048120"/>
            <a:ext cx="3273480" cy="8348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6920" y="3048120"/>
            <a:ext cx="3274920" cy="8366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0"/>
            <a:ext cx="3808440" cy="1494000"/>
          </a:xfrm>
          <a:prstGeom prst="rect">
            <a:avLst/>
          </a:prstGeom>
          <a:solidFill>
            <a:srgbClr val="cfe7f5"/>
          </a:solidFill>
          <a:ln w="9360">
            <a:solidFill>
              <a:srgbClr val="b6dcdf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« Flight control »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communicating “bloc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000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000 data-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10920" y="3959640"/>
            <a:ext cx="531720" cy="482400"/>
          </a:xfrm>
          <a:prstGeom prst="leftArrow">
            <a:avLst>
              <a:gd name="adj1" fmla="val 50000"/>
              <a:gd name="adj2" fmla="val 50075"/>
            </a:avLst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54520" y="2925720"/>
            <a:ext cx="2743200" cy="8222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unctionnal block = </a:t>
            </a: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Lustre/SCADE-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4267080"/>
            <a:ext cx="3657600" cy="4874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Code generation (to C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1:45:39Z</dcterms:created>
  <dc:creator>F.B.</dc:creator>
  <dc:description/>
  <dc:language>en-US</dc:language>
  <cp:lastModifiedBy>Frédéric Boniol</cp:lastModifiedBy>
  <dcterms:modified xsi:type="dcterms:W3CDTF">2013-03-01T11:58:14Z</dcterms:modified>
  <cp:revision>58</cp:revision>
  <dc:subject/>
  <dc:title>Présentation PowerPoint</dc:title>
</cp:coreProperties>
</file>