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F007-45AC-4F1D-A20E-CD20939F7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4851-7241-47CB-8805-9AFD97508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694F-0249-43C7-BB16-CBF2090DB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99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2234-5E3E-4E9E-90E8-CB7C03436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9DDD-B4C9-469F-A56B-3DA78958E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6817-4D08-4F5A-BE49-D8E675009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FF0F-4419-451B-A378-A0333BD8D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C0B8-63DA-478C-8D18-3ED281BFE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B0CC-203A-442C-89D6-961DE163D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085E-44BE-485D-A7E3-3CFF0EF5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99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1CA2-8768-406E-BBE1-86BCD8C0A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10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9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97C0-9367-4F22-98EB-F216F56DB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19004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210F7-0AD3-4C57-8E4B-7CE639697E02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42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533520"/>
            <a:ext cx="3122640" cy="16747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“Aircraft functions” along wit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228600"/>
            <a:ext cx="3046320" cy="9604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dentify “systems” that implement “function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828800"/>
            <a:ext cx="3046320" cy="100656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ritic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im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7845480" cy="63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48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914400"/>
            <a:ext cx="3273480" cy="167328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Hardware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ach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79440" y="1509840"/>
            <a:ext cx="4114800" cy="86652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Conception / synthesis of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tlab / Simu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33520" y="304920"/>
            <a:ext cx="7843680" cy="6395760"/>
            <a:chOff x="533520" y="304920"/>
            <a:chExt cx="7843680" cy="6395760"/>
          </a:xfrm>
        </p:grpSpPr>
        <p:sp>
          <p:nvSpPr>
            <p:cNvPr id="58" name=""/>
            <p:cNvSpPr/>
            <p:nvPr/>
          </p:nvSpPr>
          <p:spPr>
            <a:xfrm>
              <a:off x="533520" y="304920"/>
              <a:ext cx="7843680" cy="63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1927080" y="1332000"/>
              <a:ext cx="5283360" cy="463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76920" y="3048120"/>
            <a:ext cx="3273480" cy="8348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76920" y="3048120"/>
            <a:ext cx="3274920" cy="8366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ach computing un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Software archit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572000"/>
            <a:ext cx="3808440" cy="1494000"/>
          </a:xfrm>
          <a:prstGeom prst="rect">
            <a:avLst/>
          </a:prstGeom>
          <a:solidFill>
            <a:srgbClr val="cfe7f5"/>
          </a:solidFill>
          <a:ln w="9360">
            <a:solidFill>
              <a:srgbClr val="b6dcdf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« Flight control »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communicating “bloc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00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.000 data-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10920" y="3959640"/>
            <a:ext cx="531720" cy="482400"/>
          </a:xfrm>
          <a:prstGeom prst="leftArrow">
            <a:avLst>
              <a:gd name="adj1" fmla="val 50000"/>
              <a:gd name="adj2" fmla="val 50075"/>
            </a:avLst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54520" y="2925720"/>
            <a:ext cx="2743200" cy="8222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unctionnal block = </a:t>
            </a:r>
            <a:r>
              <a:rPr b="0" i="1" lang="fr-FR" sz="2000" spc="-1" strike="noStrike">
                <a:solidFill>
                  <a:srgbClr val="3366ff"/>
                </a:solidFill>
                <a:latin typeface="Arial"/>
              </a:rPr>
              <a:t>Lustre/SCADE-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304920"/>
            <a:ext cx="7846920" cy="63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7080" y="1332000"/>
            <a:ext cx="5286600" cy="4640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4267080"/>
            <a:ext cx="3657600" cy="487440"/>
          </a:xfrm>
          <a:solidFill>
            <a:srgbClr val="cfe7f5"/>
          </a:solidFill>
          <a:ln w="9360">
            <a:solidFill>
              <a:srgbClr val="800000"/>
            </a:solidFill>
            <a:miter/>
          </a:ln>
          <a:effectLst>
            <a:outerShdw dist="74769" dir="938534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Arial"/>
              </a:rPr>
              <a:t>Code generation (to 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1:45:39Z</dcterms:created>
  <dc:creator>F.B.</dc:creator>
  <dc:description/>
  <dc:language>en-US</dc:language>
  <cp:lastModifiedBy>Frédéric Boniol</cp:lastModifiedBy>
  <dcterms:modified xsi:type="dcterms:W3CDTF">2013-03-01T11:58:14Z</dcterms:modified>
  <cp:revision>58</cp:revision>
  <dc:subject/>
  <dc:title>Présentation PowerPoint</dc:title>
</cp:coreProperties>
</file>