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4FB7-42FC-4C9B-871D-FA5F9457F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5AA9-505F-48E0-B1B6-F6760DEF9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1C26-DAAF-4FCF-A0C1-F1CDAE6B3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9C96-3D37-460B-A1AE-64E5CB460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67E1-3725-419A-BF61-322C0886B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F228-0179-4B5D-ABDC-A5894F013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5505-48FE-469D-A32D-965C361FC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5E55-4438-432D-8D56-E9286A054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6531-90DE-438B-B606-7CF3765F1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47E7-4C0B-4A7E-A225-4EBC1717C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D1FC-6D14-4248-B92D-3C3B3E931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F958-90DA-413F-B949-55DA4338F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960C1-5C6A-4C52-A07B-95E5D8C76283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42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533520"/>
            <a:ext cx="3122640" cy="16747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“Aircraft functions” along wit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28600"/>
            <a:ext cx="3046320" cy="9604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y “systems” that implement “func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828800"/>
            <a:ext cx="3046320" cy="100656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itic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845480" cy="63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480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914400"/>
            <a:ext cx="3273480" cy="16732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Hardware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ach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79440" y="1509840"/>
            <a:ext cx="4114800" cy="8665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Conception / synthesis of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tlab / Simu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58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76920" y="3048120"/>
            <a:ext cx="3273480" cy="8348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048120"/>
            <a:ext cx="3274920" cy="8366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0"/>
            <a:ext cx="3808440" cy="1494000"/>
          </a:xfrm>
          <a:prstGeom prst="rect">
            <a:avLst/>
          </a:prstGeom>
          <a:solidFill>
            <a:srgbClr val="cfe7f5"/>
          </a:solidFill>
          <a:ln w="9360">
            <a:solidFill>
              <a:srgbClr val="b6dcdf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« Flight control »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communicating “bloc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00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000 data-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10920" y="3959640"/>
            <a:ext cx="531720" cy="482400"/>
          </a:xfrm>
          <a:prstGeom prst="leftArrow">
            <a:avLst>
              <a:gd name="adj1" fmla="val 50000"/>
              <a:gd name="adj2" fmla="val 50075"/>
            </a:avLst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54520" y="2925720"/>
            <a:ext cx="2743200" cy="8222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nal block = </a:t>
            </a: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Lustre/SCADE-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4267080"/>
            <a:ext cx="3657600" cy="4874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Code generation (to C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45:39Z</dcterms:created>
  <dc:creator>F.B.</dc:creator>
  <dc:description/>
  <dc:language>en-US</dc:language>
  <cp:lastModifiedBy>Frédéric Boniol</cp:lastModifiedBy>
  <dcterms:modified xsi:type="dcterms:W3CDTF">2013-03-01T11:58:14Z</dcterms:modified>
  <cp:revision>58</cp:revision>
  <dc:subject/>
  <dc:title>Présentation PowerPoint</dc:title>
</cp:coreProperties>
</file>