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3B732-1F26-4506-8CFA-DF1E7E6C10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9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43F85-EE6D-4BEF-966F-91386879CC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2CA7D-2A39-4225-A9DF-9E3AEF569F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8772E-C355-49AC-8E5A-1AC7752092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8141D-0511-403C-833B-113B036D96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6F332-65C1-4C44-BC69-CF1BAD7DB1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E0A86-7978-409E-B3C4-2FF507693D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D29B6-4D0A-466E-A00D-C96A9B413E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68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13454-3606-4EBF-822A-66316393D6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4AD4F-9CEC-44C0-98B7-B981FF8099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27431-48E7-40A1-A15E-228A6870CE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C64E3-6707-498F-9076-E2BEBB1D81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19004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2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41ADD-D46D-45C4-8E06-052FA3B5C8FE}" type="slidenum">
              <a:rPr b="0" lang="fr-FR" sz="2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520" y="304920"/>
            <a:ext cx="7843680" cy="6395760"/>
            <a:chOff x="533520" y="304920"/>
            <a:chExt cx="7843680" cy="6395760"/>
          </a:xfrm>
        </p:grpSpPr>
        <p:sp>
          <p:nvSpPr>
            <p:cNvPr id="42" name=""/>
            <p:cNvSpPr/>
            <p:nvPr/>
          </p:nvSpPr>
          <p:spPr>
            <a:xfrm>
              <a:off x="533520" y="304920"/>
              <a:ext cx="7843680" cy="63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1927080" y="1332000"/>
              <a:ext cx="5283360" cy="4637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029200" y="533520"/>
            <a:ext cx="3122640" cy="167472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“Aircraft functions” along with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ity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iming requir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105520" y="228600"/>
            <a:ext cx="3046320" cy="96048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dentify “systems” that implement “function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1828800"/>
            <a:ext cx="3046320" cy="100656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sy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riticit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im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304920"/>
            <a:ext cx="7845480" cy="639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4800" cy="4638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876920" y="914400"/>
            <a:ext cx="3273480" cy="167328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3366ff"/>
                </a:solidFill>
                <a:latin typeface="Arial"/>
              </a:rPr>
              <a:t>Hardware architectu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each system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ing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79440" y="1509840"/>
            <a:ext cx="4114800" cy="86652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fr-FR" sz="2000" spc="-1" strike="noStrike">
                <a:solidFill>
                  <a:srgbClr val="3366ff"/>
                </a:solidFill>
                <a:latin typeface="Arial"/>
              </a:rPr>
              <a:t>Conception / synthesis of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Matlab / Simul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533520" y="304920"/>
            <a:ext cx="7843680" cy="6395760"/>
            <a:chOff x="533520" y="304920"/>
            <a:chExt cx="7843680" cy="6395760"/>
          </a:xfrm>
        </p:grpSpPr>
        <p:sp>
          <p:nvSpPr>
            <p:cNvPr id="58" name=""/>
            <p:cNvSpPr/>
            <p:nvPr/>
          </p:nvSpPr>
          <p:spPr>
            <a:xfrm>
              <a:off x="533520" y="304920"/>
              <a:ext cx="7843680" cy="63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1927080" y="1332000"/>
              <a:ext cx="5283360" cy="463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4876920" y="3048120"/>
            <a:ext cx="3273480" cy="83484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 each computing unit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fr-FR" sz="2000" spc="-1" strike="noStrike">
                <a:solidFill>
                  <a:srgbClr val="3366ff"/>
                </a:solidFill>
                <a:latin typeface="Arial"/>
              </a:rPr>
              <a:t>Software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876920" y="3048120"/>
            <a:ext cx="3274920" cy="83664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 each computing un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fr-FR" sz="2000" spc="-1" strike="noStrike">
                <a:solidFill>
                  <a:srgbClr val="3366ff"/>
                </a:solidFill>
                <a:latin typeface="Arial"/>
              </a:rPr>
              <a:t>Software archite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4572000"/>
            <a:ext cx="3808440" cy="1494000"/>
          </a:xfrm>
          <a:prstGeom prst="rect">
            <a:avLst/>
          </a:prstGeom>
          <a:solidFill>
            <a:srgbClr val="cfe7f5"/>
          </a:solidFill>
          <a:ln w="9360">
            <a:solidFill>
              <a:srgbClr val="b6dcdf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« Flight control »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communicating “block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000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.000 data-dep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6010920" y="3959640"/>
            <a:ext cx="531720" cy="482400"/>
          </a:xfrm>
          <a:prstGeom prst="leftArrow">
            <a:avLst>
              <a:gd name="adj1" fmla="val 50000"/>
              <a:gd name="adj2" fmla="val 50075"/>
            </a:avLst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54520" y="2925720"/>
            <a:ext cx="2743200" cy="82224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unctionnal block = </a:t>
            </a:r>
            <a:r>
              <a:rPr b="0" i="1" lang="fr-FR" sz="2000" spc="-1" strike="noStrike">
                <a:solidFill>
                  <a:srgbClr val="3366ff"/>
                </a:solidFill>
                <a:latin typeface="Arial"/>
              </a:rPr>
              <a:t>Lustre/SCADE-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0" y="4267080"/>
            <a:ext cx="3657600" cy="48744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3366ff"/>
                </a:solidFill>
                <a:latin typeface="Arial"/>
              </a:rPr>
              <a:t>Code generation (to C c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1T11:45:39Z</dcterms:created>
  <dc:creator>F.B.</dc:creator>
  <dc:description/>
  <dc:language>en-US</dc:language>
  <cp:lastModifiedBy>Frédéric Boniol</cp:lastModifiedBy>
  <dcterms:modified xsi:type="dcterms:W3CDTF">2013-03-01T11:58:14Z</dcterms:modified>
  <cp:revision>58</cp:revision>
  <dc:subject/>
  <dc:title>Présentation PowerPoint</dc:title>
</cp:coreProperties>
</file>