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B430-317C-4D1A-8663-316140A2A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1F9B-D210-418C-89AC-CD6952467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D9E3-42CA-485B-8A53-3F2D717AD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BCF0-C32A-4A99-BFAD-280749746A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E16B-3571-42B2-97DD-8039E6279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36A4-C12C-44DE-BC18-8E338F000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D094-DBA5-4390-A039-A7D7C133E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3924-9CAF-449E-A919-A3852F475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9503-F294-445C-A17B-2E1A0A61F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2FE2-BC83-4045-885E-FC557C655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B1D3-D584-464F-ABB5-C8A1EE475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305C-DE68-4304-8518-2A9AD4A22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ECF6A-00E6-408F-B3C9-8936B6F220B7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42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533520"/>
            <a:ext cx="3122640" cy="16747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“Aircraft functions” along wit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228600"/>
            <a:ext cx="3046320" cy="9604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y “systems” that implement “func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828800"/>
            <a:ext cx="3046320" cy="100656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itic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7845480" cy="63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480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914400"/>
            <a:ext cx="3273480" cy="16732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Hardware archite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ach syste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79440" y="1509840"/>
            <a:ext cx="4114800" cy="8665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Conception / synthesis of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tlab / Simu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58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876920" y="3048120"/>
            <a:ext cx="3273480" cy="8348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3048120"/>
            <a:ext cx="3274920" cy="8366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0"/>
            <a:ext cx="3808440" cy="1494000"/>
          </a:xfrm>
          <a:prstGeom prst="rect">
            <a:avLst/>
          </a:prstGeom>
          <a:solidFill>
            <a:srgbClr val="cfe7f5"/>
          </a:solidFill>
          <a:ln w="9360">
            <a:solidFill>
              <a:srgbClr val="b6dcdf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« Flight control »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communicating “bloc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000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000 data-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10920" y="3959640"/>
            <a:ext cx="531720" cy="482400"/>
          </a:xfrm>
          <a:prstGeom prst="leftArrow">
            <a:avLst>
              <a:gd name="adj1" fmla="val 50000"/>
              <a:gd name="adj2" fmla="val 50075"/>
            </a:avLst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54520" y="2925720"/>
            <a:ext cx="2743200" cy="8222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unctionnal block = </a:t>
            </a: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Lustre/SCADE-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4267080"/>
            <a:ext cx="3657600" cy="4874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Code generation (to C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45:39Z</dcterms:created>
  <dc:creator>F.B.</dc:creator>
  <dc:description/>
  <dc:language>en-US</dc:language>
  <cp:lastModifiedBy>Frédéric Boniol</cp:lastModifiedBy>
  <dcterms:modified xsi:type="dcterms:W3CDTF">2013-03-01T11:58:14Z</dcterms:modified>
  <cp:revision>58</cp:revision>
  <dc:subject/>
  <dc:title>Présentation PowerPoint</dc:title>
</cp:coreProperties>
</file>