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73C5-E8F4-4585-B96E-84A4B9A19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6A42-7A1A-414A-BD0D-9DB41944E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2656-8EA0-4CB0-8077-BA7258125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9D3B-CD4F-4B14-8E49-204457217D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7C67-3CBF-4B8F-9DBA-AA2C13DEE6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2209-E686-46AB-8900-7154477C7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3616-990B-4537-BB10-35B7A4691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BD6F-0031-4DBB-93CF-1BD027867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8139-C803-44B9-9BE3-D0CD44A39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332F-3D3B-47A7-9035-F4E42331F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CB95-CBC9-4470-BF35-C96EA23E3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07EC-D39A-427E-BD1F-AFE6B82CE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2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A4D4E-A859-41EB-8E0F-EC57D7B90173}" type="slidenum">
              <a:rPr b="0" lang="fr-FR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304920"/>
            <a:ext cx="7843680" cy="6395760"/>
            <a:chOff x="533520" y="304920"/>
            <a:chExt cx="7843680" cy="6395760"/>
          </a:xfrm>
        </p:grpSpPr>
        <p:sp>
          <p:nvSpPr>
            <p:cNvPr id="42" name=""/>
            <p:cNvSpPr/>
            <p:nvPr/>
          </p:nvSpPr>
          <p:spPr>
            <a:xfrm>
              <a:off x="533520" y="304920"/>
              <a:ext cx="7843680" cy="63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927080" y="1332000"/>
              <a:ext cx="5283360" cy="4637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29200" y="533520"/>
            <a:ext cx="3122640" cy="167472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“Aircraft functions” along with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it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ing requi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228600"/>
            <a:ext cx="3046320" cy="96048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entify “systems” that implement “function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828800"/>
            <a:ext cx="3046320" cy="100656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ritic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7845480" cy="639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4800" cy="4638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914400"/>
            <a:ext cx="3273480" cy="167328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Arial"/>
              </a:rPr>
              <a:t>Hardware architec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each system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79440" y="1509840"/>
            <a:ext cx="4114800" cy="86652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Conception / synthesis of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Matlab / Simul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33520" y="304920"/>
            <a:ext cx="7843680" cy="6395760"/>
            <a:chOff x="533520" y="304920"/>
            <a:chExt cx="7843680" cy="6395760"/>
          </a:xfrm>
        </p:grpSpPr>
        <p:sp>
          <p:nvSpPr>
            <p:cNvPr id="58" name=""/>
            <p:cNvSpPr/>
            <p:nvPr/>
          </p:nvSpPr>
          <p:spPr>
            <a:xfrm>
              <a:off x="533520" y="304920"/>
              <a:ext cx="7843680" cy="63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927080" y="1332000"/>
              <a:ext cx="5283360" cy="463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876920" y="3048120"/>
            <a:ext cx="3273480" cy="8348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computing unit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Softwar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76920" y="3048120"/>
            <a:ext cx="3274920" cy="8366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computing un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Software archite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0"/>
            <a:ext cx="3808440" cy="1494000"/>
          </a:xfrm>
          <a:prstGeom prst="rect">
            <a:avLst/>
          </a:prstGeom>
          <a:solidFill>
            <a:srgbClr val="cfe7f5"/>
          </a:solidFill>
          <a:ln w="9360">
            <a:solidFill>
              <a:srgbClr val="b6dcdf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« Flight control »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communicating “block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000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000 data-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10920" y="3959640"/>
            <a:ext cx="531720" cy="482400"/>
          </a:xfrm>
          <a:prstGeom prst="leftArrow">
            <a:avLst>
              <a:gd name="adj1" fmla="val 50000"/>
              <a:gd name="adj2" fmla="val 50075"/>
            </a:avLst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54520" y="2925720"/>
            <a:ext cx="2743200" cy="8222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unctionnal block = </a:t>
            </a: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Lustre/SCADE-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4267080"/>
            <a:ext cx="3657600" cy="4874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Arial"/>
              </a:rPr>
              <a:t>Code generation (to C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1:45:39Z</dcterms:created>
  <dc:creator>F.B.</dc:creator>
  <dc:description/>
  <dc:language>en-US</dc:language>
  <cp:lastModifiedBy>Frédéric Boniol</cp:lastModifiedBy>
  <dcterms:modified xsi:type="dcterms:W3CDTF">2013-03-01T11:58:14Z</dcterms:modified>
  <cp:revision>58</cp:revision>
  <dc:subject/>
  <dc:title>Présentation PowerPoint</dc:title>
</cp:coreProperties>
</file>